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F3C-AE65-4CE8-9C1D-EEFD094E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414-C9D5-42E9-A51A-D05D473F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03D-CD43-4356-AA39-FE743CF8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F08-CB6A-4FA2-A069-908E22F9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850-FC78-408A-9607-76072355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E7DC-AB6A-4260-B0B0-3364B4FE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68E8-FBA3-4A1D-951C-1AB492B4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095B-190E-4028-9D99-F7D76082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36A8-F95D-4DAB-A80E-DF726712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E0BF-222B-4B80-B2E7-3AA7A9BA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2CE0-2E2C-454F-97DE-494B04DA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E9C-C0D6-4F9E-81FE-EF28A58A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AB11-B104-4274-BB58-2EDBB9C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25AC-63A8-484B-9591-E9BA807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0BA7-193A-446A-846D-290BA3BF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79F1-B419-4A65-AD18-5751850C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0165-F99B-49CE-B225-8E63D17F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B7E-598C-4DEE-9560-F49C9914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D4E-266E-419B-AC4A-369939FF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74C-012E-42B1-A80E-68A34576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0F3-AFD3-4ECD-BF0E-F34B0EF5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7D6-1F4F-4AC9-8460-AA969C0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C57-C83C-4BFB-AA8E-4CCCC57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EB0-B980-4186-90F6-0F86AD2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0855-5FE5-46A3-ADD5-C397F4916044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E2F8-ECEB-4DD1-974D-1FBA2E8AA097}" type="slidenum">
              <a:rPr b="0" lang="sl-SI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ites.google.com/site/kvalitativnametodologija/metodologija-i/skripta-i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78930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5200" spc="-1" strike="noStrike">
                <a:solidFill>
                  <a:srgbClr val="006666"/>
                </a:solidFill>
                <a:latin typeface="Verdana"/>
              </a:rPr>
              <a:t>METODOLOGIJA RAZISKOVANJA V SOCIALNEM DELU S STATISTIKO I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908000" y="5373360"/>
            <a:ext cx="66564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Blaž Mesec in Liljana Riht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66"/>
                </a:solidFill>
                <a:latin typeface="Verdana"/>
              </a:rPr>
              <a:t>METODOLOGIJA - Definicija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NEKOČ: del logike, nauk o logično pravilnih poteh in osnovah znanst. spozna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ANES: samostojna veda o tem, kako je treba znanst. raziskovati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širši pomen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(epistemologija, filozofija znanosti): predpostavljanje znanosti, narava pojmov, meto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2. </a:t>
            </a:r>
            <a:r>
              <a:rPr b="1" lang="sl-SI" sz="3200" spc="-1" strike="noStrike">
                <a:solidFill>
                  <a:srgbClr val="006699"/>
                </a:solidFill>
                <a:latin typeface="Verdana"/>
              </a:rPr>
              <a:t>ožji pomen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: osnovna načela znanstvenega spoznanja, splošne metode zn., posebne tehnike razisko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66"/>
                </a:solidFill>
                <a:latin typeface="Verdana"/>
              </a:rPr>
              <a:t>METODOLOGIJA - Vrst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OBČA METODOLOGIJA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Proučuje osnovna načela znanstvenega spoznanja, osnovne sestavin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pojem in postopk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zak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teorij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hipotez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dejstv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POSEBNE METODOLOGIJ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Metodologije posebnih ved: pedagoška, psihološka, sociološk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6699"/>
                </a:solidFill>
                <a:latin typeface="Verdana"/>
              </a:rPr>
              <a:t>Metodologija vede o socialnem delu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, posebnosti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evalvacijske 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akcijske 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študija primer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- narativne metod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66"/>
                </a:solidFill>
                <a:latin typeface="Verdana"/>
              </a:rPr>
              <a:t>METODOLOGIJA - metodik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socialno del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eda o SD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aktično S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(strok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metode raziskovanj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metode praktičneg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el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metodologija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cc99ff"/>
                </a:solidFill>
                <a:latin typeface="Verdana"/>
              </a:rPr>
              <a:t>metodik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4"/>
          <p:cNvSpPr/>
          <p:nvPr/>
        </p:nvSpPr>
        <p:spPr>
          <a:xfrm flipH="1">
            <a:off x="2050920" y="2421000"/>
            <a:ext cx="93672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4932360" y="2349360"/>
            <a:ext cx="503280" cy="432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258920" y="3429000"/>
            <a:ext cx="0" cy="1079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6588000" y="4076640"/>
            <a:ext cx="0" cy="504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1258920" y="5373720"/>
            <a:ext cx="0" cy="50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227640" y="522936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6666"/>
                </a:solidFill>
                <a:latin typeface="Verdana"/>
              </a:rPr>
              <a:t>UVO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569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aj pričakujete od predmet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Česa se bojit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aj ste do sedaj že raziskovali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Kaj bi bilo zanimivo raziskati v SD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Zakaj je pomembno, da socialne delavke in delavci izvajajo raziskav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66"/>
                </a:solidFill>
                <a:latin typeface="Verdana"/>
              </a:rPr>
              <a:t>VSEBINA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99"/>
                </a:solidFill>
                <a:latin typeface="Verdana"/>
              </a:rPr>
              <a:t>UVOD: POMEN RAZISKOVANJA V SD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Pojem metodologije, pojem znanost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Vloga raziskovanja v SD kot vedi in strok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99"/>
                </a:solidFill>
                <a:latin typeface="Verdana"/>
              </a:rPr>
              <a:t>NAČRTOVANJE RAZISKAV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Pojem načrtovanj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aze raziskave in deli načrta raziskav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Formuliranje problem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Definiranje pojmov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Merjenj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Vzorčenje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Metode zbiranja empiričnega gradiv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6699"/>
                </a:solidFill>
                <a:latin typeface="Verdana"/>
              </a:rPr>
              <a:t>Opazovanje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6699"/>
                </a:solidFill>
                <a:latin typeface="Verdana"/>
              </a:rPr>
              <a:t>Spraševanje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6699"/>
                </a:solidFill>
                <a:latin typeface="Verdana"/>
              </a:rPr>
              <a:t>Analiza sekundarnih virov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99"/>
                </a:solidFill>
                <a:latin typeface="Verdana"/>
              </a:rPr>
              <a:t>METODE OBDELAVE IN ANALIZE GRADIV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Kvalitativna analiza </a:t>
            </a:r>
            <a:r>
              <a:rPr b="0" lang="sl-SI" sz="1800" spc="-1" strike="noStrike">
                <a:solidFill>
                  <a:srgbClr val="3399ff"/>
                </a:solidFill>
                <a:latin typeface="Verdana"/>
              </a:rPr>
              <a:t>(podrobneje v 3. letniku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Kvantitativna obdelava in analiza (statistika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6699"/>
                </a:solidFill>
                <a:latin typeface="Verdana"/>
              </a:rPr>
              <a:t>Urejanje gradiv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6699"/>
                </a:solidFill>
                <a:latin typeface="Verdana"/>
              </a:rPr>
              <a:t>Frekvenčne distribucije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6699"/>
                </a:solidFill>
                <a:latin typeface="Verdana"/>
              </a:rPr>
              <a:t>Mere srednjih vrednosti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6699"/>
                </a:solidFill>
                <a:latin typeface="Verdana"/>
              </a:rPr>
              <a:t>Mere razpršenosti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6699"/>
                </a:solidFill>
                <a:latin typeface="Verdana"/>
              </a:rPr>
              <a:t>Normalna distribucij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6666"/>
                </a:solidFill>
                <a:latin typeface="Verdana"/>
              </a:rPr>
              <a:t>TEMELJNI VIR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Ackoff, R., Načrt sociološke raziskave, Univerza v Ljubljani, Filozofska fakulteta, Ljubljana 1966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Blejec, M., Uvod v statistiko, Univerza v Ljubljani, Ekonomska fakulteta, Ljubljana 1972 (in poznejši ponatisi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Mesec, B., Metodologija raziskovanja v socialnem delu I, Visoka šola za socialno delo, Ljubljana 1997 (skripta) </a:t>
            </a:r>
            <a:r>
              <a:rPr b="0" lang="sl-SI" sz="20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sites.google.com/site/kvalitativnametodologija/metodologija-i/skripta-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Petz, B., Osnovne statističke metode za nematematičare, Učbenici sveučilišta v Zagrebu, SNL 198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Reid, W.J., Smith, D., Research in social work, 2nd ed. Columbia University Press, New York 1989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Rubin, A., Babbie, E., Research methods for social work. Wadsworth Publishing, Belmont 1993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Sagadin, J., Osnovne statistične metode za pedagoge, Obzorja, Maribor 2003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Sagadin, J., Poglavja iz metodologije pedagoškega raziskovanja, I. in II. del, Pedagoški inštitut pri Univerzi v Ljubljani, Ljubljana 1977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6699"/>
                </a:solidFill>
                <a:latin typeface="Verdana"/>
              </a:rPr>
              <a:t>Toš, N., Metode družboslovnega raziskovanja, DZS, Ljubljana 1988 (in poznejše izdaj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6666"/>
                </a:solidFill>
                <a:latin typeface="Verdana"/>
              </a:rPr>
              <a:t>ŠTUDIJSKI REŽI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PREDAVAN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AJE (prisotnost, pozitivno ocenjena poročila kot pogoj za pristop k izpitu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IZPIT (metodologija + statistika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66"/>
                </a:solidFill>
                <a:latin typeface="Verdana"/>
              </a:rPr>
              <a:t>ČEMU PREUČEVATI METODOLOGIJO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6699"/>
                </a:solidFill>
                <a:latin typeface="Verdana"/>
              </a:rPr>
              <a:t>Razumevanje raziskovalnih poročil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6699"/>
                </a:solidFill>
                <a:latin typeface="Verdana"/>
              </a:rPr>
              <a:t>Odgovornost za svoje del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6699"/>
                </a:solidFill>
                <a:latin typeface="Verdana"/>
              </a:rPr>
              <a:t>Socialna služba mora upravičiti obstoj, sredstva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6699"/>
                </a:solidFill>
                <a:latin typeface="Verdana"/>
              </a:rPr>
              <a:t>Služba želi začeti nov progra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6699"/>
                </a:solidFill>
                <a:latin typeface="Verdana"/>
              </a:rPr>
              <a:t>Profesija mora imeti raziskovalne ustanov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6699"/>
                </a:solidFill>
                <a:latin typeface="Verdana"/>
              </a:rPr>
              <a:t>Osnova drugim predmetom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6699"/>
                </a:solidFill>
                <a:latin typeface="Verdana"/>
              </a:rPr>
              <a:t>Diploma, magister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6699"/>
                </a:solidFill>
                <a:latin typeface="Verdana"/>
              </a:rPr>
              <a:t>Razvijanje praktičnih teorij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66"/>
                </a:solidFill>
                <a:latin typeface="Verdana"/>
              </a:rPr>
              <a:t>METODOLOGIJA – PREGLED TE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Termi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Metodologija kot del filozofij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Definic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Vrs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Metodika in metodolog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6666"/>
                </a:solidFill>
                <a:latin typeface="Verdana"/>
              </a:rPr>
              <a:t>METODOLOGIJA – Termin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l-GR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μετά</a:t>
            </a:r>
            <a:r>
              <a:rPr b="0" lang="sl-SI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el-GR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οδός</a:t>
            </a:r>
            <a:r>
              <a:rPr b="0" lang="sl-SI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el-GR" sz="6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λόγος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sl-SI" sz="40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r>
              <a:rPr b="0" lang="sl-SI" sz="4000" spc="-1" strike="noStrike">
                <a:solidFill>
                  <a:srgbClr val="006699"/>
                </a:solidFill>
                <a:latin typeface="Verdana"/>
                <a:ea typeface="Times New Roman"/>
              </a:rPr>
              <a:t>po       poti      um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Verdana"/>
                <a:ea typeface="Times New Roman"/>
              </a:rPr>
              <a:t>	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6699"/>
                </a:solidFill>
                <a:latin typeface="Verdana"/>
                <a:ea typeface="Times New Roman"/>
              </a:rPr>
              <a:t>= </a:t>
            </a:r>
            <a:r>
              <a:rPr b="0" lang="sl-SI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umovanje, nauk o poteh, na</a:t>
            </a:r>
            <a:r>
              <a:rPr b="0" lang="sl-SI" sz="3600" spc="-1" strike="noStrike">
                <a:solidFill>
                  <a:srgbClr val="006699"/>
                </a:solidFill>
                <a:latin typeface="Verdana"/>
              </a:rPr>
              <a:t>či</a:t>
            </a:r>
            <a:r>
              <a:rPr b="0" lang="sl-SI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nih mišljenja in/ali ravnanja, preu</a:t>
            </a:r>
            <a:r>
              <a:rPr b="0" lang="sl-SI" sz="3600" spc="-1" strike="noStrike">
                <a:solidFill>
                  <a:srgbClr val="006699"/>
                </a:solidFill>
                <a:latin typeface="Verdana"/>
              </a:rPr>
              <a:t>č</a:t>
            </a:r>
            <a:r>
              <a:rPr b="0" lang="sl-SI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evanja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58000" y="442908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66"/>
                </a:solidFill>
                <a:latin typeface="Verdana"/>
              </a:rPr>
              <a:t>METODOLOGIJA – KOT DEL FILOZOFIJE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3200" spc="-1" strike="noStrike">
                <a:solidFill>
                  <a:srgbClr val="006699"/>
                </a:solidFill>
                <a:latin typeface="Verdana"/>
              </a:rPr>
              <a:t>FILOZOFIJ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antropologija    zgodovina fil.        ontologija    etika               estetik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(kaj je človek)  (razvoj fil.misli)     (kaj je bit)    (kaj je dobro)  (kaj je lepo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GNOSEOLOGIJA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LOGIK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(spoznavna teorija)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(veda o prav. mišljenju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Druge oblike spoznavanja   EPISTEMOLOGIJA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OBČA MET.  FORM.LOGIK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(umetnost, filozofija,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     (filoz. znanosti)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proučevanje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prouč. oblik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religija, ‘zdrava pamet’)   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načela znanst. spoz. metod spoz. 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pravil. mišljenj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METODOLOGIJA ZNANSTVENEG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cc99ff"/>
                </a:solidFill>
                <a:latin typeface="Verdana"/>
              </a:rPr>
              <a:t>RAZISKOVANJA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4"/>
          <p:cNvSpPr/>
          <p:nvPr/>
        </p:nvSpPr>
        <p:spPr>
          <a:xfrm flipH="1">
            <a:off x="1042920" y="1700280"/>
            <a:ext cx="1656000" cy="504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5"/>
          <p:cNvSpPr/>
          <p:nvPr/>
        </p:nvSpPr>
        <p:spPr>
          <a:xfrm flipH="1">
            <a:off x="2916360" y="1773360"/>
            <a:ext cx="287280" cy="50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500720" y="1700280"/>
            <a:ext cx="431640" cy="64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076720" y="1773360"/>
            <a:ext cx="790560" cy="57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5508720" y="1628640"/>
            <a:ext cx="1871640" cy="505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635280" y="2205000"/>
            <a:ext cx="216000" cy="863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924360" y="2205000"/>
            <a:ext cx="360360" cy="936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11"/>
          <p:cNvSpPr/>
          <p:nvPr/>
        </p:nvSpPr>
        <p:spPr>
          <a:xfrm flipH="1">
            <a:off x="1835280" y="4005360"/>
            <a:ext cx="576000" cy="215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348000" y="3933720"/>
            <a:ext cx="43200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5651640" y="3933720"/>
            <a:ext cx="144360" cy="3589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6588000" y="3933720"/>
            <a:ext cx="115272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4643280" y="5300640"/>
            <a:ext cx="57636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5724000" y="5229360"/>
            <a:ext cx="79236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0:07:26Z</dcterms:created>
  <dc:creator>Liljana Rihter</dc:creator>
  <dc:description/>
  <dc:language>en-US</dc:language>
  <cp:lastModifiedBy>rihterli</cp:lastModifiedBy>
  <dcterms:modified xsi:type="dcterms:W3CDTF">2009-10-02T09:09:08Z</dcterms:modified>
  <cp:revision>11</cp:revision>
  <dc:subject/>
  <dc:title>METODOLOGIJA RAZISKOVANJA V SOCIALNEM DELU S STATISTIKO I</dc:title>
</cp:coreProperties>
</file>